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A110-FB11-4745-B065-FD0581AB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D0FC-C642-4722-AC8C-22E593DD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2FC3-4334-4680-9B0C-C4DB53E1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34BE-5184-463F-8CE6-0098E0AE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F875-9AE2-4DF8-BA63-4A3B21CD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A99B-C7E8-43A5-BBBB-E6206F17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1CC1-AD2F-4247-84D7-93C95DA0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4ECD-6F24-4B06-AAE0-BF7A3F32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6F5-3BD6-4983-9ECA-A9ED2B3C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C54A-5955-4EEE-B20E-387D7F6D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B55C-DE58-41A0-BD16-1BA6B636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4FBD-E9E3-4985-B98B-9ED99DE5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0EBB-A1AE-4CDA-8812-856A9FA90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apirback.com/tapirgal/gifts/friends/birds/penguin-galapagos-plastic-f1528.jpg" TargetMode="External"/><Relationship Id="rId2" Type="http://schemas.openxmlformats.org/officeDocument/2006/relationships/hyperlink" Target="http://mascarafamily.com/hanfan/Pictures%20for%20Rich/Homeless%20Man.jpg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-5724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Hobo and the Pengu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334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Riley and 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696080" y="4648320"/>
            <a:ext cx="1563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4267080" cy="4038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828800" y="380880"/>
            <a:ext cx="3124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e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arb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a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b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5410080" y="457200"/>
            <a:ext cx="3197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1760" y="380520"/>
            <a:ext cx="6172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ere proba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afternoon sn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572000" y="2895480"/>
            <a:ext cx="424800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 rot="18737400">
            <a:off x="5583240" y="3296880"/>
            <a:ext cx="2951280" cy="295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581280" y="1600200"/>
            <a:ext cx="4019760" cy="2495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41240" y="-360"/>
            <a:ext cx="4572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o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 smelled so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ong sm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rotten sus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apirback.com/tapirgal/gifts/friends/birds/penguin-galapagos-plastic-f1528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ascarafamily.com/hanfan/Pictures%20for%20Rich/Homeless%20Man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brunton.com/images/catalog/duffel_bag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blog.lib.umn.edu/stau0156/architecture/garbage%20can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shanalogic.com/item_images/149_sushi_salmcalif_full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21:55:46Z</dcterms:created>
  <dc:creator>lex.little</dc:creator>
  <dc:description/>
  <dc:language>en-US</dc:language>
  <cp:lastModifiedBy>cyndi.vander_ven</cp:lastModifiedBy>
  <dcterms:modified xsi:type="dcterms:W3CDTF">2009-04-17T12:53:27Z</dcterms:modified>
  <cp:revision>5</cp:revision>
  <dc:subject/>
  <dc:title>The Hobo and the Penguin</dc:title>
</cp:coreProperties>
</file>